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78C-D4D6-4ACF-A24F-C31219DB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B50-140B-45E7-BFF5-C9D85358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577-5CAC-4B40-8705-D66C47AD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2A1-701E-4287-A071-12C40FBA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711-7488-4A31-8273-5AC50879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1DD-BF65-47F2-9F94-890700F0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F58-1566-43EA-9A6F-4AC8D7EC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DAA-8B57-4212-9AFA-1A08B3AD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393-634A-436B-A986-8FFBA47B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76E0-50F8-4FC2-A8EA-6158AD5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646-9AE1-4D9E-B6FE-397D18B3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B4E3-8FD0-4133-8259-9C13A7FF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8B0A-A5B8-4AD3-ACC9-B298F0DF9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7524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fertilized egg is known as th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12952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 example of an organism with external fertiliz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13716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 example of an organism with internal fertiliz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144792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the human, fertilization usually occurs within this part of the female’s reproductive tr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4479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an example of an organism with internal developmen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600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an example of an organism with internal fertilization and external develop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219320"/>
            <a:ext cx="6324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process begins immediately after fertilization and results in the formation of a blast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18288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two things must take place in order for an embryo to G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1371600"/>
            <a:ext cx="632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are the nourishment of a chick embryo and a human embry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6765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motile male gamete is produced in this structur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what the urethra is adapted to transpo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1447920"/>
            <a:ext cx="746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osterone is produced by this part of the male reproductive 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21932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the advantage of the testes being located in an out-pocketing of the body 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2952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the function of the male reproductive 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14479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emale gamete is produced in this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6002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structure is also known as the birth can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1447920"/>
            <a:ext cx="6324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-10 days after fertilization, the embryo becomes implanted in this structu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15238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structure is made of both maternal and embryonic tissu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1066680"/>
            <a:ext cx="632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two secondary sex characteristics prepare the female’s body for pregnancy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523880" y="1143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143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H BOY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10666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IT’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GI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1066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ENSTRUAL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219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OH 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MEI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76720" y="11430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DEVELOP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known as the release of an egg from the ov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144792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what occurs during the final stage of menstru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52388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se two things may interrupt the menstrual cyc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1430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hormone that causes the maturation of an egg in a follicle of an ova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permanent cessation of the menstrual cycle is called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4064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1447920"/>
            <a:ext cx="71629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9092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explains why sperm and egg cells must be monoploi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26668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ne half the number of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permat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3716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many chromosomes will a cell have after meiosi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(compared to the original cel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y disinteg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union of the sperm and egg nucle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Zyg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666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es or Ovaries (depending on gender, of course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2666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sh, frogs, salamanders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rrestrial animals.  Ex:  Mammals, reptiles, bi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iduct (or fallopian tub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cental mammal (human), marsupial (kangaro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irds,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295280"/>
            <a:ext cx="66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type of meiotic division results in the formation of 4 sperm cel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eav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crease in cell number and increase in cell siz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133720"/>
            <a:ext cx="63244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uman :  Diffuse through the placenta and transported to embryo by the umbilical co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icken:  Yol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perm and Ur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858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eeping the temperature cooler than body temperature, which ensures proper sperm developm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90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produce sperm cells and deposit them in the body of the fema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g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44792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h oh! This type of meiotic division results in the formation of one egg cell and three polar bod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ce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666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evelopment of mammary glands and widening of hip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v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26668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dding of the uterine l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egnancy, severe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SH (follicle stimulating hormon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666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op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4800" y="6095880"/>
            <a:ext cx="15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094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sing two monoploid nuclei creates a diploid cell, which will form a diploid organis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(n + n = 2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152388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what happens to the polar bodies after oogenes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137160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name of an organ in your body where meiosis occu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8360" y="6095880"/>
            <a:ext cx="15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8960" y="6095880"/>
            <a:ext cx="153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446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is is the definition of fertiliz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28:52Z</dcterms:modified>
  <cp:revision>65</cp:revision>
  <dc:subject/>
  <dc:title>Reproduction Jeopardy</dc:title>
</cp:coreProperties>
</file>